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370-133F-47F4-8799-85D77271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921-3990-4117-955B-E2E7A7E2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3023-181F-4B90-9FEB-7720487A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E922-B0B8-4768-B096-8AB182A4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763-F003-4C38-8E1E-01C00A7B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C20-8390-43F6-A5D1-E3FF2F30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AD63-DE2F-4B94-870B-CAAA2413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048-CE09-42A5-97DE-4E0B487D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BE3-5204-4A72-AA90-2A13AB80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0CAD-3B4A-4EA4-9E5D-E3FA6C06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525B-0402-4D95-AF52-523CD546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44C-55DF-46DB-84A5-5AD65534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6030-FCDC-4DD1-928B-9E3A64965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50states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50states.com/bird/mtblue.htm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www.postcardsfrom.com/t1/981030.html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postcardsfrom.com/t1/981030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7480" y="5116680"/>
            <a:ext cx="1676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anna Ryan October 17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#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914400"/>
            <a:ext cx="70102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Georgia"/>
              </a:rPr>
              <a:t>Idah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Georgia"/>
              <a:ea typeface="Georgi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19320" y="5105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533412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ho Song Fifty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aho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25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50states.com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apital City: B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Entered Union: 4/3/1890 #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Motto: Esto perpetua (Let it be perpetu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Nickname: Gem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lower: Syri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Bird: Mountain Blue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ong: Here we have Ida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Name’s meaning: Gem of the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ree: White 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Gems: Garnet, Opal, Agate, Obsidian, Sapph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Population: 1,567,5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Arctic Blue-Bird"/>
          <p:cNvPicPr/>
          <p:nvPr/>
        </p:nvPicPr>
        <p:blipFill>
          <a:blip r:embed="rId1"/>
          <a:stretch/>
        </p:blipFill>
        <p:spPr>
          <a:xfrm>
            <a:off x="685800" y="1676520"/>
            <a:ext cx="2346480" cy="3276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4843440"/>
            <a:ext cx="253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states.c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irds of America: The Arctic Blue-Bird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October 24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50states.com/bird/mtblu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33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Mountain Bluebird, the state bird of Idaho and Ne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All images Copyright © 1997 - 2000 WriteLine. All Rights Reserved. marble columns of rotunda"/>
          <p:cNvPicPr/>
          <p:nvPr/>
        </p:nvPicPr>
        <p:blipFill>
          <a:blip r:embed="rId3"/>
          <a:stretch/>
        </p:blipFill>
        <p:spPr>
          <a:xfrm>
            <a:off x="4648320" y="205740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0" y="1219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e capitol building in Boise, Ida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5105520"/>
            <a:ext cx="41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of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aho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ctober 25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ostcardsfrom.com/t1/98103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Devils Orch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All images Copyright © 1997 - 2000 WriteLine. All Rights Reserved. Volcanic rocks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5803920"/>
            <a:ext cx="8153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of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aho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ctober 25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8103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0:56Z</dcterms:created>
  <dc:creator>install</dc:creator>
  <dc:description/>
  <dc:language>en-US</dc:language>
  <cp:lastModifiedBy>install</cp:lastModifiedBy>
  <dcterms:modified xsi:type="dcterms:W3CDTF">2011-10-27T13:38:07Z</dcterms:modified>
  <cp:revision>7</cp:revision>
  <dc:subject/>
  <dc:title>Slide 1</dc:title>
</cp:coreProperties>
</file>